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9EC-4F15-43AC-9ACF-E8B8700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174-E6FA-4FD0-83FE-1C17F994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BBF-CFC7-427B-A474-26A74AD9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E15-DCF0-4335-85A6-BB074FBB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943-CDF6-48AF-AC2B-E591E607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D419-1089-4278-8E30-AD11BC20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5E6D-F7DF-4BFD-9020-1AC8CA16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8BF-42E1-441C-8E92-5598CD1D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70C-C912-4AA0-8E02-CE7DD55C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0E6-EC9F-47E5-A4CC-BB6E1A4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1984-432A-4820-9DCC-E8DD28F5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50F-638E-42DD-8C4A-2480F34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990-FA03-4FEC-9813-26D3A1D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361-BA05-47BD-8E4A-545D00BB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673-2EC3-4481-95CD-D1D180AB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FFB-303C-4160-A8A5-DD76D292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3C56-1B39-4FFB-BD48-63B07C7D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000-587F-4AB1-91CB-4347D21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DC5-8BD7-4A12-9810-4A8EE1B5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088-7B29-4ED6-A2EC-285736E1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E0E-FD3C-48C5-AECA-14782904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980-B3BD-48C7-B1C8-C3AE90B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2D6-9886-416F-91DB-272BAE5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D08-DCB9-4D57-8C86-86ED004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695-0561-448C-9796-091EBC4D78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F1E-2043-4548-8A33-3D608E39467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er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)  Get out homework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problem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) Open Up Grapher, It looks like a rainbow on your bottom b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) zoom out till you see 5 on the x and y axix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106200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666880" cy="175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934320" y="6019920"/>
            <a:ext cx="12636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67360" y="228600"/>
            <a:ext cx="4976640" cy="362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568680" cy="2940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966000" y="4141800"/>
            <a:ext cx="2178000" cy="271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80880" y="42670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 points.  Delete Column 3 and double click column 1 row 1 and start editing the points while tabbing to the next point.  Get all four points.  When you have A-&gt;C then back to “A” again, 4 click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)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oint set again, This time delete all the rows and colum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your little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these steps for b and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your mi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303640" cy="23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1148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  Now insert your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Equation, New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67320" cy="2986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724280"/>
            <a:ext cx="258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440" y="4595760"/>
            <a:ext cx="92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 your 3 equations from little a to A, as well as b to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 to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79132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three lines cross at the same point?  What is that po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2160360" cy="227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1326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lope of AB, BC,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B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BC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8288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9051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 Graph the 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, B, C with the slopes to graph the altitudes and the New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720" y="2486160"/>
            <a:ext cx="583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A(1,4)   _|_m BC 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B(3,0)   _|_m AC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C(-1,-2) _|_m AB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160" y="29718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- 4 = m(x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1840" y="4114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m(x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18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2= m(x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0481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B= -2 so _|_m AB = 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114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= 3 so _|_m AC = -1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C= 1/2  so _|_m BC = 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267080" y="5543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ph Problem 31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35:43Z</dcterms:created>
  <dc:creator>PA Department of Education</dc:creator>
  <dc:description/>
  <dc:language>en-US</dc:language>
  <cp:lastModifiedBy>PA Department of Education</cp:lastModifiedBy>
  <dcterms:modified xsi:type="dcterms:W3CDTF">2008-03-08T18:21:40Z</dcterms:modified>
  <cp:revision>2</cp:revision>
  <dc:subject/>
  <dc:title>Grapher Activity</dc:title>
</cp:coreProperties>
</file>